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3D9F-8621-49D9-A567-5C9C1FDE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8F46-75C8-4240-9D3A-2B6FC540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042-E6FD-4B4C-A983-3C30019B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60A-C5EE-4768-902F-2A65901E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7449-05D0-4F4D-8861-80A87135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CD48-B6F6-43A2-B7E0-ECAB2647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F4A4-CC79-4393-B71F-D359C019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50A2-4AF6-4BA5-92C4-4B2952B8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6710-7337-4711-9278-149E27F3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48D4-17B9-4B75-AAB8-7D42BFEC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0830-55D9-4C33-9EF8-BFC0E472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06F-AD94-4232-BDBB-DC07F544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4FA2-ED63-4C25-A173-EF49170A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2228-A015-4AF5-BE07-5A716DB3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6B8B-6EEA-4642-A2F1-F5F14E4C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D506-A729-4C87-AA41-8D6CA63E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BA53-01A6-4C09-BC65-21BE6A1E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986-5A84-4089-9DC3-2CA6828C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56C-3BF0-4921-84CC-43C35D5B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AE5-7537-4C5C-8EEF-AB25B25F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448-C7D3-4EA8-AE00-DDB7A4D7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873-A1AB-4E85-89D2-EF5B3586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F0C5-1F55-4D9A-B0F1-8A2A7A8C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19B2-715A-443B-8C9B-386E0B2B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A1ED-35AF-4EEF-8A63-D77AF48EC3A9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C599-FD06-4292-A36C-6B5F7592932E}" type="slidenum">
              <a:rPr b="0" lang="ro-RO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reenfleet.info/" TargetMode="External"/><Relationship Id="rId2" Type="http://schemas.openxmlformats.org/officeDocument/2006/relationships/hyperlink" Target="http://www.mangus.ro/" TargetMode="External"/><Relationship Id="rId3" Type="http://schemas.openxmlformats.org/officeDocument/2006/relationships/hyperlink" Target="http://www.biodiesel-king.ro/" TargetMode="External"/><Relationship Id="rId4" Type="http://schemas.openxmlformats.org/officeDocument/2006/relationships/hyperlink" Target="http://www.biodiesel-king.ro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95934b"/>
                </a:solidFill>
                <a:latin typeface="Tahoma"/>
              </a:rPr>
              <a:t>Cum au evoluat motoarele</a:t>
            </a:r>
            <a:r>
              <a:rPr b="0" lang="en-US" sz="5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o-RO" sz="5400" spc="-1" strike="noStrike">
                <a:solidFill>
                  <a:srgbClr val="95934b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Şcoala cu cls. I-VIII “Pavel Da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Tritenii de J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95934b"/>
                </a:solidFill>
                <a:latin typeface="Tahoma"/>
              </a:rPr>
              <a:t>BIOCOMBUSTIBILI: BIODIESEL, BIOETANOL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Puncte f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Preţ redus/scutiri de tax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Resurse domestic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Costuri reduse sau adaptarea staţiilor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realiment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Opţiuni în ce priveşte amestecuri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Puncte sla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Ofertă limitată de vehicule OE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Insuficienţa staţiilor de realiment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95934b"/>
                </a:solidFill>
                <a:latin typeface="Tahoma"/>
              </a:rPr>
              <a:t>BIOCOMBUSTIBILI: BIODIESEL, BIOETANOL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Oportunităţ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preocupări faţă de încălzirea globală/local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creşterea preţurilor la petrol pe termen lu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Provocă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disponibilitatea produselor OE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mediu stabil de reglementare şi fiscal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marketing public lar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2310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95934b"/>
                </a:solidFill>
                <a:latin typeface="Tahoma"/>
              </a:rPr>
              <a:t>Utilizarea locală (schemă)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85800" y="1447920"/>
            <a:ext cx="8458200" cy="5409720"/>
            <a:chOff x="685800" y="1447920"/>
            <a:chExt cx="8458200" cy="5409720"/>
          </a:xfrm>
        </p:grpSpPr>
        <p:sp>
          <p:nvSpPr>
            <p:cNvPr id="445" name=""/>
            <p:cNvSpPr/>
            <p:nvPr/>
          </p:nvSpPr>
          <p:spPr>
            <a:xfrm flipV="1">
              <a:off x="2819520" y="3124080"/>
              <a:ext cx="3886200" cy="243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72200" y="3352680"/>
              <a:ext cx="29718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elucrarea şi utilizarea biodieselului este un concept de dezvoltare ciclica, durabilă, orientată câtre colectivităţile locale tradiţiona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3276720" y="1447920"/>
              <a:ext cx="2286000" cy="1371240"/>
              <a:chOff x="3276720" y="1447920"/>
              <a:chExt cx="2286000" cy="1371240"/>
            </a:xfrm>
          </p:grpSpPr>
          <p:sp>
            <p:nvSpPr>
              <p:cNvPr id="448" name=""/>
              <p:cNvSpPr/>
              <p:nvPr/>
            </p:nvSpPr>
            <p:spPr>
              <a:xfrm>
                <a:off x="3429000" y="1447920"/>
                <a:ext cx="1959120" cy="137124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76720" y="1859040"/>
                <a:ext cx="2286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600" spc="-1" strike="noStrike">
                    <a:solidFill>
                      <a:srgbClr val="dddcc5"/>
                    </a:solidFill>
                    <a:latin typeface="Tahoma"/>
                    <a:ea typeface="Arial"/>
                  </a:rPr>
                  <a:t>Cultivare rapiţă şi colectare seminţ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685800" y="3352680"/>
              <a:ext cx="1904760" cy="914040"/>
              <a:chOff x="685800" y="3352680"/>
              <a:chExt cx="1904760" cy="914040"/>
            </a:xfrm>
          </p:grpSpPr>
          <p:sp>
            <p:nvSpPr>
              <p:cNvPr id="451" name=""/>
              <p:cNvSpPr/>
              <p:nvPr/>
            </p:nvSpPr>
            <p:spPr>
              <a:xfrm>
                <a:off x="838080" y="3352680"/>
                <a:ext cx="1676520" cy="914040"/>
              </a:xfrm>
              <a:prstGeom prst="rect">
                <a:avLst/>
              </a:prstGeom>
              <a:solidFill>
                <a:srgbClr val="eaeb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85800" y="3504600"/>
                <a:ext cx="1904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600" spc="-1" strike="noStrike">
                    <a:solidFill>
                      <a:srgbClr val="dddcc5"/>
                    </a:solidFill>
                    <a:latin typeface="Tahoma"/>
                    <a:ea typeface="Arial"/>
                  </a:rPr>
                  <a:t>Alimentare maşini agrico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3429000" y="3352680"/>
              <a:ext cx="2025360" cy="1447560"/>
              <a:chOff x="3429000" y="3352680"/>
              <a:chExt cx="2025360" cy="1447560"/>
            </a:xfrm>
          </p:grpSpPr>
          <p:sp>
            <p:nvSpPr>
              <p:cNvPr id="454" name=""/>
              <p:cNvSpPr/>
              <p:nvPr/>
            </p:nvSpPr>
            <p:spPr>
              <a:xfrm>
                <a:off x="3473280" y="3352680"/>
                <a:ext cx="1933560" cy="14475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29000" y="3762000"/>
                <a:ext cx="2025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600" spc="-1" strike="noStrike">
                    <a:solidFill>
                      <a:srgbClr val="dddcc5"/>
                    </a:solidFill>
                    <a:latin typeface="Tahoma"/>
                    <a:ea typeface="Arial"/>
                  </a:rPr>
                  <a:t>Prelucrare seminţ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762120" y="5029200"/>
              <a:ext cx="2361960" cy="1752120"/>
              <a:chOff x="762120" y="5029200"/>
              <a:chExt cx="2361960" cy="1752120"/>
            </a:xfrm>
          </p:grpSpPr>
          <p:sp>
            <p:nvSpPr>
              <p:cNvPr id="457" name=""/>
              <p:cNvSpPr/>
              <p:nvPr/>
            </p:nvSpPr>
            <p:spPr>
              <a:xfrm>
                <a:off x="762120" y="5029200"/>
                <a:ext cx="2361960" cy="1752120"/>
              </a:xfrm>
              <a:prstGeom prst="irregularSeal1">
                <a:avLst/>
              </a:prstGeom>
              <a:solidFill>
                <a:srgbClr val="95934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409040" y="5714640"/>
                <a:ext cx="1098000" cy="337320"/>
              </a:xfrm>
              <a:prstGeom prst="rect">
                <a:avLst/>
              </a:prstGeom>
              <a:solidFill>
                <a:srgbClr val="959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600" spc="-1" strike="noStrike">
                    <a:solidFill>
                      <a:srgbClr val="dddcc5"/>
                    </a:solidFill>
                    <a:latin typeface="Tahoma"/>
                    <a:ea typeface="Arial"/>
                  </a:rPr>
                  <a:t>Biodiese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581280" y="5867280"/>
              <a:ext cx="1981080" cy="990360"/>
              <a:chOff x="3581280" y="5867280"/>
              <a:chExt cx="1981080" cy="990360"/>
            </a:xfrm>
          </p:grpSpPr>
          <p:sp>
            <p:nvSpPr>
              <p:cNvPr id="460" name=""/>
              <p:cNvSpPr/>
              <p:nvPr/>
            </p:nvSpPr>
            <p:spPr>
              <a:xfrm>
                <a:off x="3657240" y="5867280"/>
                <a:ext cx="1828800" cy="99036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581280" y="6171840"/>
                <a:ext cx="1981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6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Srotur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6400800" y="5257800"/>
              <a:ext cx="1828800" cy="990000"/>
              <a:chOff x="6400800" y="5257800"/>
              <a:chExt cx="1828800" cy="990000"/>
            </a:xfrm>
          </p:grpSpPr>
          <p:sp>
            <p:nvSpPr>
              <p:cNvPr id="463" name=""/>
              <p:cNvSpPr/>
              <p:nvPr/>
            </p:nvSpPr>
            <p:spPr>
              <a:xfrm>
                <a:off x="6400800" y="5257800"/>
                <a:ext cx="1828800" cy="9900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477120" y="553032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6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Gliceri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6400800" y="1981080"/>
              <a:ext cx="1676520" cy="1218960"/>
              <a:chOff x="6400800" y="1981080"/>
              <a:chExt cx="1676520" cy="1218960"/>
            </a:xfrm>
          </p:grpSpPr>
          <p:sp>
            <p:nvSpPr>
              <p:cNvPr id="466" name=""/>
              <p:cNvSpPr/>
              <p:nvPr/>
            </p:nvSpPr>
            <p:spPr>
              <a:xfrm>
                <a:off x="6400800" y="1981080"/>
                <a:ext cx="1676520" cy="1218960"/>
              </a:xfrm>
              <a:prstGeom prst="ellipse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477120" y="2145960"/>
                <a:ext cx="1600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6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Alte grăsimi, vegetale sau anima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 flipV="1">
              <a:off x="2362320" y="4571640"/>
              <a:ext cx="1371600" cy="837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4343400" y="2818800"/>
              <a:ext cx="76320" cy="533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 flipV="1">
              <a:off x="5257800" y="4495320"/>
              <a:ext cx="1447920" cy="91404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 flipV="1">
              <a:off x="4495680" y="4800600"/>
              <a:ext cx="76320" cy="1066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4267080"/>
              <a:ext cx="228600" cy="1218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1676160" y="2514600"/>
              <a:ext cx="1904760" cy="83772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95934b"/>
                </a:solidFill>
                <a:latin typeface="Tahoma"/>
              </a:rPr>
              <a:t>Concluzii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Biodieselul reprezintă o soluţie ecologica economică şi avantajoasă tehnologic pentru înlocuirea carburanţilor clasic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În prezent, această soluţie este aplicabilă în întreprinderi locale, generalizarea sa fiind împiedicată artificial de politicile globale care susţin în continuare industriile şi tehnologiile bazate pe combustibili convenţionali (hidrocarburi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Cerinţele Uniunii Europene, forţa de munca ieftină şi suprafeţele agricole mari, ce pot fi cultivate cu rapiţă, fac din Romania un jucător interesant pe piaţa carburanţilor ecologic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95934b"/>
                </a:solidFill>
                <a:latin typeface="Tahoma"/>
              </a:rPr>
              <a:t>Bibliografie :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00"/>
                </a:solidFill>
                <a:uFillTx/>
                <a:latin typeface="Tahoma"/>
                <a:hlinkClick r:id="rId1"/>
              </a:rPr>
              <a:t>www.greenfleet.inf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00"/>
                </a:solidFill>
                <a:uFillTx/>
                <a:latin typeface="Tahoma"/>
                <a:hlinkClick r:id="rId2"/>
              </a:rPr>
              <a:t>www.mangus.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00"/>
                </a:solidFill>
                <a:uFillTx/>
                <a:latin typeface="Tahoma"/>
                <a:hlinkClick r:id="rId3"/>
              </a:rPr>
              <a:t>http://www.biodiesel-king.ro</a:t>
            </a:r>
            <a:r>
              <a:rPr b="0" lang="en-US" sz="3200" spc="-1" strike="noStrike" u="sng">
                <a:solidFill>
                  <a:srgbClr val="009900"/>
                </a:solidFill>
                <a:uFillTx/>
                <a:latin typeface="Tahoma"/>
                <a:hlinkClick r:id="rId4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OMBUSTIBILI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456000" cy="21477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3529080" cy="22543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611280" y="3581280"/>
            <a:ext cx="3585960" cy="25178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4870440" y="3641760"/>
            <a:ext cx="37371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95934b"/>
                </a:solidFill>
                <a:latin typeface="Tahoma"/>
              </a:rPr>
              <a:t>Ce sunt combustibilii</a:t>
            </a: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 ?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2416320"/>
            <a:ext cx="8540640" cy="36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Combustibilii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 – sunt substanţe sau amestecuri de substanţe, care în urma unei reacţii chimice de ardere produc o mare cantitate de căldur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2322720" y="981000"/>
            <a:ext cx="4522680" cy="4522680"/>
            <a:chOff x="2322720" y="981000"/>
            <a:chExt cx="4522680" cy="4522680"/>
          </a:xfrm>
        </p:grpSpPr>
        <p:sp>
          <p:nvSpPr>
            <p:cNvPr id="394" name="_s8216"/>
            <p:cNvSpPr/>
            <p:nvPr/>
          </p:nvSpPr>
          <p:spPr>
            <a:xfrm flipH="1" flipV="1">
              <a:off x="3782880" y="2441160"/>
              <a:ext cx="401400" cy="40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8215"/>
            <p:cNvSpPr/>
            <p:nvPr/>
          </p:nvSpPr>
          <p:spPr>
            <a:xfrm>
              <a:off x="2819520" y="1477800"/>
              <a:ext cx="1131840" cy="1131840"/>
            </a:xfrm>
            <a:prstGeom prst="ellipse">
              <a:avLst/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lem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8214"/>
            <p:cNvSpPr/>
            <p:nvPr/>
          </p:nvSpPr>
          <p:spPr>
            <a:xfrm flipH="1">
              <a:off x="3450960" y="3241440"/>
              <a:ext cx="56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8213"/>
            <p:cNvSpPr/>
            <p:nvPr/>
          </p:nvSpPr>
          <p:spPr>
            <a:xfrm>
              <a:off x="2322720" y="2676240"/>
              <a:ext cx="1131840" cy="1132200"/>
            </a:xfrm>
            <a:prstGeom prst="ellipse">
              <a:avLst/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motorin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8212"/>
            <p:cNvSpPr/>
            <p:nvPr/>
          </p:nvSpPr>
          <p:spPr>
            <a:xfrm flipH="1">
              <a:off x="3782880" y="3639960"/>
              <a:ext cx="401400" cy="40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8211"/>
            <p:cNvSpPr/>
            <p:nvPr/>
          </p:nvSpPr>
          <p:spPr>
            <a:xfrm>
              <a:off x="2819520" y="3875040"/>
              <a:ext cx="1131840" cy="1131840"/>
            </a:xfrm>
            <a:prstGeom prst="ellipse">
              <a:avLst/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hidro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8210"/>
            <p:cNvSpPr/>
            <p:nvPr/>
          </p:nvSpPr>
          <p:spPr>
            <a:xfrm>
              <a:off x="4583160" y="3805200"/>
              <a:ext cx="0" cy="56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8209"/>
            <p:cNvSpPr/>
            <p:nvPr/>
          </p:nvSpPr>
          <p:spPr>
            <a:xfrm>
              <a:off x="4017960" y="4371840"/>
              <a:ext cx="1132200" cy="1131840"/>
            </a:xfrm>
            <a:prstGeom prst="ellipse">
              <a:avLst/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pe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8208"/>
            <p:cNvSpPr/>
            <p:nvPr/>
          </p:nvSpPr>
          <p:spPr>
            <a:xfrm>
              <a:off x="4981680" y="3639960"/>
              <a:ext cx="401760" cy="40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8207"/>
            <p:cNvSpPr/>
            <p:nvPr/>
          </p:nvSpPr>
          <p:spPr>
            <a:xfrm>
              <a:off x="5216760" y="3875040"/>
              <a:ext cx="1131840" cy="1131840"/>
            </a:xfrm>
            <a:prstGeom prst="ellipse">
              <a:avLst/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gaz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me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8204"/>
            <p:cNvSpPr/>
            <p:nvPr/>
          </p:nvSpPr>
          <p:spPr>
            <a:xfrm>
              <a:off x="5146920" y="3241440"/>
              <a:ext cx="56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8203"/>
            <p:cNvSpPr/>
            <p:nvPr/>
          </p:nvSpPr>
          <p:spPr>
            <a:xfrm>
              <a:off x="5713560" y="2676240"/>
              <a:ext cx="1131840" cy="1132200"/>
            </a:xfrm>
            <a:prstGeom prst="ellipse">
              <a:avLst/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cărbu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8202"/>
            <p:cNvSpPr/>
            <p:nvPr/>
          </p:nvSpPr>
          <p:spPr>
            <a:xfrm flipV="1">
              <a:off x="4981680" y="2441160"/>
              <a:ext cx="401760" cy="40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_s8201"/>
            <p:cNvSpPr/>
            <p:nvPr/>
          </p:nvSpPr>
          <p:spPr>
            <a:xfrm>
              <a:off x="5216760" y="1477800"/>
              <a:ext cx="1131840" cy="1131840"/>
            </a:xfrm>
            <a:prstGeom prst="ellipse">
              <a:avLst/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benzin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_s8200"/>
            <p:cNvSpPr/>
            <p:nvPr/>
          </p:nvSpPr>
          <p:spPr>
            <a:xfrm flipV="1">
              <a:off x="4583160" y="2111400"/>
              <a:ext cx="0" cy="56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_s8199"/>
            <p:cNvSpPr/>
            <p:nvPr/>
          </p:nvSpPr>
          <p:spPr>
            <a:xfrm>
              <a:off x="4017960" y="981000"/>
              <a:ext cx="1132200" cy="1131840"/>
            </a:xfrm>
            <a:prstGeom prst="ellipse">
              <a:avLst/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alco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8198"/>
            <p:cNvSpPr/>
            <p:nvPr/>
          </p:nvSpPr>
          <p:spPr>
            <a:xfrm>
              <a:off x="4017960" y="2678040"/>
              <a:ext cx="1132200" cy="1131840"/>
            </a:xfrm>
            <a:prstGeom prst="ellipse">
              <a:avLst/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combustib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95934b"/>
                </a:solidFill>
                <a:latin typeface="Tahoma"/>
              </a:rPr>
              <a:t>Clasificarea combustibililor:</a:t>
            </a:r>
            <a:br>
              <a:rPr sz="4000"/>
            </a:b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2223000" y="2077200"/>
            <a:ext cx="4038480" cy="1044360"/>
            <a:chOff x="2223000" y="2077200"/>
            <a:chExt cx="4038480" cy="1044360"/>
          </a:xfrm>
        </p:grpSpPr>
        <p:cxnSp>
          <p:nvCxnSpPr>
            <p:cNvPr id="413" name="_s4108"/>
            <p:cNvCxnSpPr>
              <a:stCxn id="414" idx="0"/>
              <a:endCxn id="415" idx="2"/>
            </p:cNvCxnSpPr>
            <p:nvPr/>
          </p:nvCxnSpPr>
          <p:spPr>
            <a:xfrm flipV="1" rot="16200000">
              <a:off x="4840200" y="1888560"/>
              <a:ext cx="226440" cy="1420560"/>
            </a:xfrm>
            <a:prstGeom prst="bentConnector3">
              <a:avLst>
                <a:gd name="adj1" fmla="val 495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6" name="_s4107"/>
            <p:cNvCxnSpPr>
              <a:stCxn id="417" idx="0"/>
              <a:endCxn id="415" idx="2"/>
            </p:cNvCxnSpPr>
            <p:nvPr/>
          </p:nvCxnSpPr>
          <p:spPr>
            <a:xfrm flipV="1">
              <a:off x="4243320" y="2485800"/>
              <a:ext cx="1800" cy="22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8" name="_s4106"/>
            <p:cNvCxnSpPr>
              <a:stCxn id="419" idx="0"/>
              <a:endCxn id="415" idx="2"/>
            </p:cNvCxnSpPr>
            <p:nvPr/>
          </p:nvCxnSpPr>
          <p:spPr>
            <a:xfrm flipH="1" flipV="1" rot="5400000">
              <a:off x="3418920" y="1887120"/>
              <a:ext cx="226440" cy="1423800"/>
            </a:xfrm>
            <a:prstGeom prst="bentConnector3">
              <a:avLst>
                <a:gd name="adj1" fmla="val 495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15" name="_s4102"/>
            <p:cNvSpPr/>
            <p:nvPr/>
          </p:nvSpPr>
          <p:spPr>
            <a:xfrm>
              <a:off x="2838960" y="2077200"/>
              <a:ext cx="2806920" cy="407880"/>
            </a:xfrm>
            <a:prstGeom prst="roundRect">
              <a:avLst>
                <a:gd name="adj" fmla="val 16667"/>
              </a:avLst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după strarea de agreg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4103"/>
            <p:cNvSpPr/>
            <p:nvPr/>
          </p:nvSpPr>
          <p:spPr>
            <a:xfrm>
              <a:off x="2223000" y="2713680"/>
              <a:ext cx="1195560" cy="407880"/>
            </a:xfrm>
            <a:prstGeom prst="roundRect">
              <a:avLst>
                <a:gd name="adj" fmla="val 16667"/>
              </a:avLst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soliz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4104"/>
            <p:cNvSpPr/>
            <p:nvPr/>
          </p:nvSpPr>
          <p:spPr>
            <a:xfrm>
              <a:off x="3644280" y="2713680"/>
              <a:ext cx="1195560" cy="407880"/>
            </a:xfrm>
            <a:prstGeom prst="roundRect">
              <a:avLst>
                <a:gd name="adj" fmla="val 16667"/>
              </a:avLst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lichiz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4105"/>
            <p:cNvSpPr/>
            <p:nvPr/>
          </p:nvSpPr>
          <p:spPr>
            <a:xfrm>
              <a:off x="5065920" y="2713680"/>
              <a:ext cx="1195560" cy="407880"/>
            </a:xfrm>
            <a:prstGeom prst="roundRect">
              <a:avLst>
                <a:gd name="adj" fmla="val 16667"/>
              </a:avLst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gazoş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291840" y="4237560"/>
            <a:ext cx="2629800" cy="1044360"/>
            <a:chOff x="3291840" y="4237560"/>
            <a:chExt cx="2629800" cy="1044360"/>
          </a:xfrm>
        </p:grpSpPr>
        <p:cxnSp>
          <p:nvCxnSpPr>
            <p:cNvPr id="421" name="_s4117"/>
            <p:cNvCxnSpPr>
              <a:stCxn id="422" idx="0"/>
              <a:endCxn id="423" idx="2"/>
            </p:cNvCxnSpPr>
            <p:nvPr/>
          </p:nvCxnSpPr>
          <p:spPr>
            <a:xfrm flipV="1" rot="16200000">
              <a:off x="4848840" y="4402800"/>
              <a:ext cx="228960" cy="7135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4" name="_s4116"/>
            <p:cNvCxnSpPr>
              <a:stCxn id="425" idx="0"/>
              <a:endCxn id="423" idx="2"/>
            </p:cNvCxnSpPr>
            <p:nvPr/>
          </p:nvCxnSpPr>
          <p:spPr>
            <a:xfrm flipH="1" flipV="1" rot="5400000">
              <a:off x="4137120" y="4404240"/>
              <a:ext cx="228960" cy="7110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23" name="_s4112"/>
            <p:cNvSpPr/>
            <p:nvPr/>
          </p:nvSpPr>
          <p:spPr>
            <a:xfrm>
              <a:off x="3291840" y="4237560"/>
              <a:ext cx="2629800" cy="407880"/>
            </a:xfrm>
            <a:prstGeom prst="roundRect">
              <a:avLst>
                <a:gd name="adj" fmla="val 16667"/>
              </a:avLst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după modul de obţin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_s4113"/>
            <p:cNvSpPr/>
            <p:nvPr/>
          </p:nvSpPr>
          <p:spPr>
            <a:xfrm>
              <a:off x="3298680" y="4874040"/>
              <a:ext cx="1195560" cy="407880"/>
            </a:xfrm>
            <a:prstGeom prst="roundRect">
              <a:avLst>
                <a:gd name="adj" fmla="val 16667"/>
              </a:avLst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natural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_s4114"/>
            <p:cNvSpPr/>
            <p:nvPr/>
          </p:nvSpPr>
          <p:spPr>
            <a:xfrm>
              <a:off x="4720320" y="4874040"/>
              <a:ext cx="1195560" cy="407880"/>
            </a:xfrm>
            <a:prstGeom prst="roundRect">
              <a:avLst>
                <a:gd name="adj" fmla="val 16667"/>
              </a:avLst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artifici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95934b"/>
                </a:solidFill>
                <a:latin typeface="Tahoma"/>
              </a:rPr>
              <a:t>Puterea calorică (q )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5614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este cantitatea de căldură degajată (Q ) la arderea unui kilogram de substanţ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Unitatea de măsură în S.I.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- pentru solizi şi lichizi :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- pentru gazoşi: 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 metru c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529320" y="2378160"/>
                <a:ext cx="185256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Bauhaus 93"/>
              </a:rPr>
              <a:t>Puterile calorice ale câtorva substanţe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ustibilu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terea caloric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nz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,698 * 10 </a:t>
                      </a:r>
                      <a:r>
                        <a:rPr b="0" lang="ro-RO" sz="2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/ 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tor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,569 * 10 </a:t>
                      </a:r>
                      <a:r>
                        <a:rPr b="0" lang="ro-RO" sz="2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/ 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ăcu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,7 * 10 </a:t>
                      </a:r>
                      <a:r>
                        <a:rPr b="0" lang="ro-RO" sz="2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 /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,720 * 10 </a:t>
                      </a:r>
                      <a:r>
                        <a:rPr b="0" lang="ro-RO" sz="2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 /k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mn (umiditate 40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*  10 </a:t>
                      </a:r>
                      <a:r>
                        <a:rPr b="0" lang="ro-RO" sz="2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 /k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95934b"/>
                </a:solidFill>
                <a:latin typeface="Tahoma"/>
              </a:rPr>
              <a:t>CE SUNT BIOCOMBUSTIBILII?</a:t>
            </a:r>
            <a:br>
              <a:rPr sz="4000"/>
            </a:br>
            <a:r>
              <a:rPr b="1" i="1" lang="ro-RO" sz="4000" spc="-1" strike="noStrike">
                <a:solidFill>
                  <a:srgbClr val="95934b"/>
                </a:solidFill>
                <a:latin typeface="Tahoma"/>
              </a:rPr>
              <a:t>(Biodiesel, Bioetanol, Biogaz )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Biocombustibilii sunt combustibili derivaţi din diverse su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ale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biomasei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plante material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anumite tipuri de cultur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uleiuri vegetale reciclate sau deşeur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9337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4549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95934b"/>
                </a:solidFill>
                <a:latin typeface="Tahoma"/>
              </a:rPr>
              <a:t>DE CE SĂ PROMOVĂM BIOCOMBUSTIBILI</a:t>
            </a:r>
            <a:r>
              <a:rPr b="1" lang="ro-RO" sz="4000" spc="-1" strike="noStrike">
                <a:solidFill>
                  <a:srgbClr val="95934b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0000"/>
                </a:solidFill>
                <a:latin typeface="Tahoma"/>
              </a:rPr>
              <a:t>Biocombustibilii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 pentru transport au devenit o prioritate în ultimii ani. Principalele motive  pentru promovarea biocombustibililor su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contribuie la </a:t>
            </a:r>
            <a:r>
              <a:rPr b="1" lang="ro-RO" sz="2400" spc="-1" strike="noStrike">
                <a:solidFill>
                  <a:srgbClr val="000000"/>
                </a:solidFill>
                <a:latin typeface="Tahoma"/>
              </a:rPr>
              <a:t>reducerea emisiilor 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de gaze cu efect de ser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contribuie la </a:t>
            </a:r>
            <a:r>
              <a:rPr b="1" lang="ro-RO" sz="2400" spc="-1" strike="noStrike">
                <a:solidFill>
                  <a:srgbClr val="000000"/>
                </a:solidFill>
                <a:latin typeface="Tahoma"/>
              </a:rPr>
              <a:t>securitatea furnizării energiei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promovează o mai intensă utilizare a </a:t>
            </a:r>
            <a:r>
              <a:rPr b="1" lang="ro-RO" sz="2400" spc="-1" strike="noStrike">
                <a:solidFill>
                  <a:srgbClr val="000000"/>
                </a:solidFill>
                <a:latin typeface="Tahoma"/>
              </a:rPr>
              <a:t>energie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651200" y="2347920"/>
            <a:ext cx="419112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1T19:17:27Z</dcterms:created>
  <dc:creator>aaa</dc:creator>
  <dc:description/>
  <dc:language>en-US</dc:language>
  <cp:lastModifiedBy>aaa</cp:lastModifiedBy>
  <dcterms:modified xsi:type="dcterms:W3CDTF">2010-05-04T20:18:01Z</dcterms:modified>
  <cp:revision>6</cp:revision>
  <dc:subject/>
  <dc:title>Cu au evoluat combustibilii ?</dc:title>
</cp:coreProperties>
</file>